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5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4515CA-04E4-4B50-80F2-4929734E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5360"/>
            <a:ext cx="297000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7D949B7D-B15A-4664-BBF2-E5DB01AFE8F2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040" cy="411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C11BA5-C707-46AA-8EB8-2953D97F1930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09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y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5360"/>
            <a:ext cx="297000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493ACE03-CEE6-411C-B885-191A266832D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9A6243-2BFD-4AF9-A4FE-A473B1BA195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960120" y="687960"/>
            <a:ext cx="4939200" cy="34264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5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the presentation ar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rst, we will briefly describe the basic resources that make up a grid computing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xt, we will describe the grid middleware a s the software layer to integrate heterogeneous computational platforms that could belong to different administrative dom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ose two sections are an introduction to the main part of the presentation: a  proposal of taxonomy for grid computing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DE8853DA-EEF5-47C3-93DC-408274C165C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246F17E5-C062-450C-AAB8-65B25A7A1BC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4B5FEF63-84E6-4742-8E63-B226838270A7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1CE4D037-B22F-41DA-AAE5-212CB53A48C0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5BEDB847-BE8C-4620-9EB4-9588C6CFF4E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5189ED-8D67-4340-B85D-059347737FF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89A9A9-2D7C-40B9-95FF-EEC5F550BA29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4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s could be adjusted through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4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DS publishing time is greater than the time employed on deploying one VM plus SGE regist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4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letraAzul-fondoBlanco"/>
          <p:cNvPicPr/>
          <p:nvPr/>
        </p:nvPicPr>
        <p:blipFill>
          <a:blip r:embed="rId2"/>
          <a:stretch/>
        </p:blipFill>
        <p:spPr>
          <a:xfrm>
            <a:off x="1778040" y="4221000"/>
            <a:ext cx="5587560" cy="526680"/>
          </a:xfrm>
          <a:prstGeom prst="rect">
            <a:avLst/>
          </a:prstGeom>
          <a:ln w="9525">
            <a:noFill/>
          </a:ln>
        </p:spPr>
      </p:pic>
      <p:sp>
        <p:nvSpPr>
          <p:cNvPr id="1" name="Text Box 20"/>
          <p:cNvSpPr/>
          <p:nvPr/>
        </p:nvSpPr>
        <p:spPr>
          <a:xfrm>
            <a:off x="1979640" y="4724280"/>
            <a:ext cx="518436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Distributed Systems Architecture Research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Universidad Complutense de Mad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1" descr="mec"/>
          <p:cNvPicPr/>
          <p:nvPr/>
        </p:nvPicPr>
        <p:blipFill>
          <a:blip r:embed="rId3"/>
          <a:stretch/>
        </p:blipFill>
        <p:spPr>
          <a:xfrm>
            <a:off x="5381640" y="6012000"/>
            <a:ext cx="1131480" cy="447480"/>
          </a:xfrm>
          <a:prstGeom prst="rect">
            <a:avLst/>
          </a:prstGeom>
          <a:ln w="9525">
            <a:noFill/>
          </a:ln>
        </p:spPr>
      </p:pic>
      <p:pic>
        <p:nvPicPr>
          <p:cNvPr id="3" name="Picture 22" descr="madridorg"/>
          <p:cNvPicPr/>
          <p:nvPr/>
        </p:nvPicPr>
        <p:blipFill>
          <a:blip r:embed="rId4"/>
          <a:stretch/>
        </p:blipFill>
        <p:spPr>
          <a:xfrm>
            <a:off x="3338640" y="5950080"/>
            <a:ext cx="807840" cy="691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23" descr="ue"/>
          <p:cNvPicPr/>
          <p:nvPr/>
        </p:nvPicPr>
        <p:blipFill>
          <a:blip r:embed="rId5"/>
          <a:stretch/>
        </p:blipFill>
        <p:spPr>
          <a:xfrm>
            <a:off x="7907400" y="5992920"/>
            <a:ext cx="767880" cy="52668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24" descr="logo3"/>
          <p:cNvPicPr/>
          <p:nvPr/>
        </p:nvPicPr>
        <p:blipFill>
          <a:blip r:embed="rId6"/>
          <a:stretch/>
        </p:blipFill>
        <p:spPr>
          <a:xfrm>
            <a:off x="592200" y="5972040"/>
            <a:ext cx="1280880" cy="604440"/>
          </a:xfrm>
          <a:prstGeom prst="rect">
            <a:avLst/>
          </a:prstGeom>
          <a:ln w="9525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000" spc="-1" strike="noStrike">
                <a:solidFill>
                  <a:srgbClr val="32425d"/>
                </a:solidFill>
                <a:latin typeface="Arial"/>
              </a:rPr>
              <a:t>Click to edit the outline text format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5" descr="logodef2"/>
          <p:cNvPicPr/>
          <p:nvPr/>
        </p:nvPicPr>
        <p:blipFill>
          <a:blip r:embed="rId2"/>
          <a:stretch/>
        </p:blipFill>
        <p:spPr>
          <a:xfrm>
            <a:off x="0" y="0"/>
            <a:ext cx="649080" cy="6857640"/>
          </a:xfrm>
          <a:prstGeom prst="rect">
            <a:avLst/>
          </a:prstGeom>
          <a:ln w="9525">
            <a:noFill/>
          </a:ln>
        </p:spPr>
      </p:pic>
      <p:sp>
        <p:nvSpPr>
          <p:cNvPr id="45" name="Rectangle 3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220240" y="6603840"/>
            <a:ext cx="104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BE01532B-9C7F-479C-8014-67D9BFBF75C5}" type="slidenum"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&lt;number&gt;</a:t>
            </a:fld>
            <a:r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" name="Picture 29" descr="ucm"/>
          <p:cNvPicPr/>
          <p:nvPr/>
        </p:nvPicPr>
        <p:blipFill>
          <a:blip r:embed="rId3"/>
          <a:srcRect l="0" t="0" r="-22806" b="7285"/>
          <a:stretch/>
        </p:blipFill>
        <p:spPr>
          <a:xfrm>
            <a:off x="73080" y="76320"/>
            <a:ext cx="623520" cy="74736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46200" y="907920"/>
            <a:ext cx="8497440" cy="547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2425d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Click to edit Master text styles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 le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rd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3" marL="1173240" indent="-9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th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22860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fth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5" descr="logodef2"/>
          <p:cNvPicPr/>
          <p:nvPr/>
        </p:nvPicPr>
        <p:blipFill>
          <a:blip r:embed="rId2"/>
          <a:stretch/>
        </p:blipFill>
        <p:spPr>
          <a:xfrm>
            <a:off x="0" y="0"/>
            <a:ext cx="649080" cy="6857640"/>
          </a:xfrm>
          <a:prstGeom prst="rect">
            <a:avLst/>
          </a:prstGeom>
          <a:ln w="9525">
            <a:noFill/>
          </a:ln>
        </p:spPr>
      </p:pic>
      <p:sp>
        <p:nvSpPr>
          <p:cNvPr id="88" name="Rectangle 3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8220240" y="6603840"/>
            <a:ext cx="104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89E38E92-ABED-4F4A-8C3C-FBD392DE20A4}" type="slidenum"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&lt;number&gt;</a:t>
            </a:fld>
            <a:r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1" name="Picture 29" descr="ucm"/>
          <p:cNvPicPr/>
          <p:nvPr/>
        </p:nvPicPr>
        <p:blipFill>
          <a:blip r:embed="rId3"/>
          <a:srcRect l="0" t="0" r="-22806" b="7285"/>
          <a:stretch/>
        </p:blipFill>
        <p:spPr>
          <a:xfrm>
            <a:off x="73080" y="76320"/>
            <a:ext cx="623520" cy="747360"/>
          </a:xfrm>
          <a:prstGeom prst="rect">
            <a:avLst/>
          </a:prstGeom>
          <a:ln w="9525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000" spc="-1" strike="noStrike">
                <a:solidFill>
                  <a:srgbClr val="32425d"/>
                </a:solidFill>
                <a:latin typeface="Arial"/>
              </a:rPr>
              <a:t>Click to edit the outline text format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5" descr="logodef2"/>
          <p:cNvPicPr/>
          <p:nvPr/>
        </p:nvPicPr>
        <p:blipFill>
          <a:blip r:embed="rId2"/>
          <a:stretch/>
        </p:blipFill>
        <p:spPr>
          <a:xfrm>
            <a:off x="0" y="0"/>
            <a:ext cx="64908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Rectangle 3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20240" y="6603840"/>
            <a:ext cx="104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219BA2D9-96AC-4886-964C-7D7B982F19FD}" type="slidenum"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&lt;number&gt;</a:t>
            </a:fld>
            <a:r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4" name="Picture 29" descr="ucm"/>
          <p:cNvPicPr/>
          <p:nvPr/>
        </p:nvPicPr>
        <p:blipFill>
          <a:blip r:embed="rId3"/>
          <a:srcRect l="0" t="0" r="-22806" b="7285"/>
          <a:stretch/>
        </p:blipFill>
        <p:spPr>
          <a:xfrm>
            <a:off x="73080" y="76320"/>
            <a:ext cx="623520" cy="747360"/>
          </a:xfrm>
          <a:prstGeom prst="rect">
            <a:avLst/>
          </a:prstGeom>
          <a:ln w="9525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000" spc="-1" strike="noStrike">
                <a:solidFill>
                  <a:srgbClr val="32425d"/>
                </a:solidFill>
                <a:latin typeface="Arial"/>
              </a:rPr>
              <a:t>Click to edit the outline text format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684360" y="2039040"/>
            <a:ext cx="7776720" cy="132696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</a:pPr>
            <a:endParaRPr b="1" lang="es-ES" sz="32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762120" y="1981080"/>
            <a:ext cx="755928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ynamic Provision of Computing Resources from Grid Infrastructures and Cloud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8"/>
          <p:cNvSpPr/>
          <p:nvPr/>
        </p:nvSpPr>
        <p:spPr>
          <a:xfrm>
            <a:off x="628560" y="3488040"/>
            <a:ext cx="7762680" cy="77508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Constantino Vázquez    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Rubén S. Mon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Eduardo Huedo       Ignacio M. Llo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-533520" y="514440"/>
            <a:ext cx="1021032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32425d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 International Workshop on GRIDS, CLOUDS and VIR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 baseline="30000">
                <a:solidFill>
                  <a:srgbClr val="32425d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 International Conference on Grid and Pervasive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Geneva, 4-9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Conclusions &amp; Future Work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762120" y="609480"/>
            <a:ext cx="74671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e to build arbitrarily complex grid infrastruc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 single point of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ynamically adapts its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4"/>
          <p:cNvSpPr/>
          <p:nvPr/>
        </p:nvSpPr>
        <p:spPr>
          <a:xfrm>
            <a:off x="633240" y="304920"/>
            <a:ext cx="813708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i="1" lang="en-US" sz="1600" spc="-1" strike="noStrike">
              <a:solidFill>
                <a:srgbClr val="32425d"/>
              </a:solidFill>
              <a:latin typeface="Arial"/>
              <a:ea typeface="Arial"/>
            </a:endParaRPr>
          </a:p>
        </p:txBody>
      </p:sp>
      <p:sp>
        <p:nvSpPr>
          <p:cNvPr id="238" name="AutoShape 31"/>
          <p:cNvSpPr/>
          <p:nvPr/>
        </p:nvSpPr>
        <p:spPr>
          <a:xfrm>
            <a:off x="609480" y="25934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2"/>
          <p:cNvSpPr/>
          <p:nvPr/>
        </p:nvSpPr>
        <p:spPr>
          <a:xfrm>
            <a:off x="620640" y="30477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762120" y="3048120"/>
            <a:ext cx="746712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Manag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uristics to meet SLAs &amp;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adapters for Grid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M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31"/>
          <p:cNvSpPr/>
          <p:nvPr/>
        </p:nvSpPr>
        <p:spPr>
          <a:xfrm>
            <a:off x="1066680" y="1603440"/>
            <a:ext cx="7799040" cy="63972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32425d"/>
                </a:solidFill>
                <a:latin typeface="Arial"/>
                <a:ea typeface="Arial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3"/>
          <p:cNvSpPr/>
          <p:nvPr/>
        </p:nvSpPr>
        <p:spPr>
          <a:xfrm>
            <a:off x="628560" y="49046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Acknowle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4"/>
          <p:cNvSpPr/>
          <p:nvPr/>
        </p:nvSpPr>
        <p:spPr>
          <a:xfrm>
            <a:off x="674640" y="5319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38360" y="5410080"/>
            <a:ext cx="8513280" cy="177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úl Samp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fael Mo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838080" y="2702880"/>
            <a:ext cx="80769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research is partially funded by th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“RESERVOIR– Resources and Services Virtualization without Barriers”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32425d"/>
                </a:solidFill>
                <a:latin typeface="Arial"/>
                <a:ea typeface="Arial"/>
              </a:rPr>
              <a:t>EU grant agreement 215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3060720" y="5410080"/>
            <a:ext cx="457164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7840" indent="-177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ier Fon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3520440" y="4857840"/>
            <a:ext cx="2575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www.reservoir-fp7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380880" y="-46080"/>
            <a:ext cx="8316720" cy="50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32425c"/>
                </a:solidFill>
                <a:latin typeface="Arial"/>
                <a:ea typeface="Arial"/>
              </a:rPr>
              <a:t>Dynamic Provision of Computing Resources from Grid Infrastructures and Cloud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"/>
          <p:cNvPicPr/>
          <p:nvPr/>
        </p:nvPicPr>
        <p:blipFill>
          <a:blip r:embed="rId1"/>
          <a:stretch/>
        </p:blipFill>
        <p:spPr>
          <a:xfrm>
            <a:off x="1676520" y="3822120"/>
            <a:ext cx="62481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2425d"/>
                </a:solidFill>
                <a:latin typeface="Arial"/>
                <a:ea typeface="Arial"/>
              </a:rPr>
              <a:t>Content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900000" y="476280"/>
            <a:ext cx="7635600" cy="289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ids &amp; Inter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ation for Provision of Gri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chitecture of th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. 1: Provisioning from Heterogeneous Grids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. 2: Extension to Cloud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s and Futu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Motivation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677880" y="1371600"/>
            <a:ext cx="8008560" cy="356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arch, supercomputing centers (and others) need to me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uctuating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k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the ability to build arbitrary complex grid infrastructure able to sustain the demand required by any given serv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1"/>
          <p:cNvSpPr/>
          <p:nvPr/>
        </p:nvSpPr>
        <p:spPr>
          <a:xfrm>
            <a:off x="609480" y="459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What are we trying to sol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620640" y="914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AutoShape 31"/>
          <p:cNvSpPr/>
          <p:nvPr/>
        </p:nvSpPr>
        <p:spPr>
          <a:xfrm>
            <a:off x="609480" y="2745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620640" y="3200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Rounded Rectangle 30"/>
          <p:cNvSpPr/>
          <p:nvPr/>
        </p:nvSpPr>
        <p:spPr>
          <a:xfrm>
            <a:off x="685800" y="3581280"/>
            <a:ext cx="8000640" cy="1447560"/>
          </a:xfrm>
          <a:prstGeom prst="roundRect">
            <a:avLst>
              <a:gd name="adj" fmla="val 16667"/>
            </a:avLst>
          </a:prstGeom>
          <a:solidFill>
            <a:schemeClr val="accent1">
              <a:alpha val="15000"/>
            </a:schemeClr>
          </a:solidFill>
          <a:ln>
            <a:solidFill>
              <a:srgbClr val="b5dcd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Grids &amp; Interoperability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85800" y="1066680"/>
            <a:ext cx="8008560" cy="420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native ability of grids and grid technologies to interact directly via common ope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et of techniques to get production grid infrastructures to work together in the short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1"/>
          <p:cNvSpPr/>
          <p:nvPr/>
        </p:nvSpPr>
        <p:spPr>
          <a:xfrm>
            <a:off x="609480" y="5360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Interoperability VS Inter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620640" y="990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609480" y="2745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Metaschedule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2"/>
          <p:cNvSpPr/>
          <p:nvPr/>
        </p:nvSpPr>
        <p:spPr>
          <a:xfrm>
            <a:off x="620640" y="3200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685800" y="3429000"/>
            <a:ext cx="3047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oint of access to arbitrarily complex grid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ar architecture to implement adap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blo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4" descr="fig1.pdf"/>
          <p:cNvPicPr/>
          <p:nvPr/>
        </p:nvPicPr>
        <p:blipFill>
          <a:blip r:embed="rId1"/>
          <a:stretch/>
        </p:blipFill>
        <p:spPr>
          <a:xfrm>
            <a:off x="3733920" y="3352680"/>
            <a:ext cx="504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Virtualization for Provision of Grid Resourc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85800" y="1066680"/>
            <a:ext cx="8008560" cy="329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VM is an isolated runtime environment (guest OS and ap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1"/>
          <p:cNvSpPr/>
          <p:nvPr/>
        </p:nvSpPr>
        <p:spPr>
          <a:xfrm>
            <a:off x="609480" y="5360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Virtual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2"/>
          <p:cNvSpPr/>
          <p:nvPr/>
        </p:nvSpPr>
        <p:spPr>
          <a:xfrm>
            <a:off x="620640" y="990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AutoShape 31"/>
          <p:cNvSpPr/>
          <p:nvPr/>
        </p:nvSpPr>
        <p:spPr>
          <a:xfrm>
            <a:off x="685800" y="3888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Benefits of Virtualization Plat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696600" y="4343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685800" y="3276720"/>
            <a:ext cx="8229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ural way to deal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terogene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ion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gacy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171840" cy="21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Virtualization for Provision of Grid Resourc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85800" y="1066680"/>
            <a:ext cx="8008560" cy="768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systems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ed resources as a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remo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-demand access to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ercial Cloud Provider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azon EC2, GoGrid, Elastic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tific/Academic Cloud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us Ni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1"/>
          <p:cNvSpPr/>
          <p:nvPr/>
        </p:nvSpPr>
        <p:spPr>
          <a:xfrm>
            <a:off x="609480" y="5360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Cloud Computing: Infrastructure as a Service (Ia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620640" y="990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685800" y="3276720"/>
            <a:ext cx="82292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Picture 2.png"/>
          <p:cNvPicPr/>
          <p:nvPr/>
        </p:nvPicPr>
        <p:blipFill>
          <a:blip r:embed="rId1"/>
          <a:stretch/>
        </p:blipFill>
        <p:spPr>
          <a:xfrm>
            <a:off x="1295280" y="1828800"/>
            <a:ext cx="6705360" cy="36057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1"/>
          <p:cNvSpPr/>
          <p:nvPr/>
        </p:nvSpPr>
        <p:spPr>
          <a:xfrm>
            <a:off x="628560" y="52603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Infrastructure Clou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639720" y="57150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Architecture of the Solution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85800" y="1066680"/>
            <a:ext cx="8008560" cy="65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85800" y="3276720"/>
            <a:ext cx="82292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1" descr="gwandsmarch.eps"/>
          <p:cNvPicPr/>
          <p:nvPr/>
        </p:nvPicPr>
        <p:blipFill>
          <a:blip r:embed="rId1"/>
          <a:stretch/>
        </p:blipFill>
        <p:spPr>
          <a:xfrm>
            <a:off x="990720" y="690840"/>
            <a:ext cx="7162560" cy="60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Provisioning from Heterogeneous Grid Infrastructures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4"/>
          <p:cNvSpPr/>
          <p:nvPr/>
        </p:nvSpPr>
        <p:spPr>
          <a:xfrm>
            <a:off x="633240" y="304920"/>
            <a:ext cx="813708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en-US" sz="1600" spc="-1" strike="noStrike">
                <a:solidFill>
                  <a:srgbClr val="32425d"/>
                </a:solidFill>
                <a:latin typeface="Arial"/>
                <a:ea typeface="Arial"/>
              </a:rPr>
              <a:t>Experime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1"/>
          <p:cNvSpPr/>
          <p:nvPr/>
        </p:nvSpPr>
        <p:spPr>
          <a:xfrm>
            <a:off x="609480" y="7646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Testing the use of adapters in Grid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2"/>
          <p:cNvSpPr/>
          <p:nvPr/>
        </p:nvSpPr>
        <p:spPr>
          <a:xfrm>
            <a:off x="620640" y="12189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85800" y="1334160"/>
            <a:ext cx="8008560" cy="365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iddleware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3" descr="archadapters.eps"/>
          <p:cNvPicPr/>
          <p:nvPr/>
        </p:nvPicPr>
        <p:blipFill>
          <a:blip r:embed="rId1"/>
          <a:stretch/>
        </p:blipFill>
        <p:spPr>
          <a:xfrm>
            <a:off x="5412240" y="1752480"/>
            <a:ext cx="3502800" cy="3809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jobdistribadapters.eps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85800" y="2971800"/>
            <a:ext cx="4571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Extension to Cloud Providers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4"/>
          <p:cNvSpPr/>
          <p:nvPr/>
        </p:nvSpPr>
        <p:spPr>
          <a:xfrm>
            <a:off x="633240" y="304920"/>
            <a:ext cx="813708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en-US" sz="1600" spc="-1" strike="noStrike">
                <a:solidFill>
                  <a:srgbClr val="32425d"/>
                </a:solidFill>
                <a:latin typeface="Arial"/>
                <a:ea typeface="Arial"/>
              </a:rPr>
              <a:t>Experim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1"/>
          <p:cNvSpPr/>
          <p:nvPr/>
        </p:nvSpPr>
        <p:spPr>
          <a:xfrm>
            <a:off x="609480" y="7646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Testing the overhead of running Worker Nodes in the Clo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2"/>
          <p:cNvSpPr/>
          <p:nvPr/>
        </p:nvSpPr>
        <p:spPr>
          <a:xfrm>
            <a:off x="620640" y="12189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85800" y="1334160"/>
            <a:ext cx="8008560" cy="4025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s made with Globus Nimbus Cloud, with SG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Manager -&gt; monitors GridWay -&gt; increase,decrease clust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d overh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419720" y="2666880"/>
            <a:ext cx="24379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 to S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 to M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 to Grid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905120" y="2743200"/>
            <a:ext cx="2437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utting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Picture 1.png"/>
          <p:cNvPicPr/>
          <p:nvPr/>
        </p:nvPicPr>
        <p:blipFill>
          <a:blip r:embed="rId1"/>
          <a:stretch/>
        </p:blipFill>
        <p:spPr>
          <a:xfrm>
            <a:off x="2209680" y="4660920"/>
            <a:ext cx="4520160" cy="143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GridWay Presentation Template">
  <a:themeElements>
    <a:clrScheme name="1_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ridWay Presentation Template">
  <a:themeElements>
    <a:clrScheme name="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ridWay Presentation Template">
  <a:themeElements>
    <a:clrScheme name="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GridWay Presentation Template">
  <a:themeElements>
    <a:clrScheme name="2_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1</TotalTime>
  <Application>LibreOffice/7.4.7.2$Linux_X86_64 LibreOffice_project/40$Build-2</Application>
  <AppVersion>15.0000</AppVersion>
  <Words>665</Words>
  <Paragraphs>204</Paragraphs>
  <Company>UC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9:32:44Z</dcterms:created>
  <dc:creator>Ruben S. Montero</dc:creator>
  <dc:description/>
  <dc:language>en-US</dc:language>
  <cp:lastModifiedBy>Tino Vázquez</cp:lastModifiedBy>
  <cp:lastPrinted>2009-04-29T15:37:44Z</cp:lastPrinted>
  <dcterms:modified xsi:type="dcterms:W3CDTF">2009-05-04T20:07:10Z</dcterms:modified>
  <cp:revision>5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